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67467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66560" y="4776120"/>
            <a:ext cx="67467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364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6560" y="47761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3640" y="47761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7880" y="26665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29200" y="26665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66560" y="47761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7880" y="47761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29200" y="47761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66560" y="2666520"/>
            <a:ext cx="67467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67467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32922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3640" y="2666520"/>
            <a:ext cx="32922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66560" y="2212560"/>
            <a:ext cx="6746760" cy="15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3640" y="2666520"/>
            <a:ext cx="32922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66560" y="47761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66560" y="2666520"/>
            <a:ext cx="67467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32922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364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23640" y="47761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364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6560" y="4776120"/>
            <a:ext cx="67467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67467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66560" y="4776120"/>
            <a:ext cx="67467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364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6560" y="47761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23640" y="47761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7880" y="26665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29200" y="26665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66560" y="47761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7880" y="47761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29200" y="4776120"/>
            <a:ext cx="217224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67467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32922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3640" y="2666520"/>
            <a:ext cx="32922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66560" y="2212560"/>
            <a:ext cx="6746760" cy="15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3640" y="2666520"/>
            <a:ext cx="32922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66560" y="47761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32922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364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3640" y="47761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656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3640" y="2666520"/>
            <a:ext cx="329220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6560" y="4776120"/>
            <a:ext cx="6746760" cy="19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66560" y="2212560"/>
            <a:ext cx="67467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66560" y="2666520"/>
            <a:ext cx="67467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5000"/>
              </a:lnSpc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4b005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buClr>
                <a:srgbClr val="4b005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buClr>
                <a:srgbClr val="4b005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buClr>
                <a:srgbClr val="4b005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6920" y="2133360"/>
            <a:ext cx="70531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0055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b0055"/>
              </a:solidFill>
              <a:latin typeface="Arial"/>
            </a:endParaRPr>
          </a:p>
          <a:p>
            <a:pPr lvl="1" marL="457200" indent="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0055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b0055"/>
              </a:solidFill>
              <a:latin typeface="Arial"/>
            </a:endParaRPr>
          </a:p>
          <a:p>
            <a:pPr lvl="2" marL="914400" algn="ctr">
              <a:lnSpc>
                <a:spcPct val="125000"/>
              </a:lnSpc>
              <a:buClr>
                <a:srgbClr val="4b0055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005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b0055"/>
              </a:solidFill>
              <a:latin typeface="Arial"/>
            </a:endParaRPr>
          </a:p>
          <a:p>
            <a:pPr lvl="3" marL="1371600" algn="ctr">
              <a:lnSpc>
                <a:spcPct val="125000"/>
              </a:lnSpc>
              <a:buClr>
                <a:srgbClr val="4b0055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005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b0055"/>
              </a:solidFill>
              <a:latin typeface="Arial"/>
            </a:endParaRPr>
          </a:p>
          <a:p>
            <a:pPr lvl="4" marL="1828800" algn="ctr">
              <a:lnSpc>
                <a:spcPct val="125000"/>
              </a:lnSpc>
              <a:buClr>
                <a:srgbClr val="4b0055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005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b005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005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b005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005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6920" y="2133360"/>
            <a:ext cx="70531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kijken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4b0055"/>
                </a:solidFill>
                <a:latin typeface="Wingdings"/>
                <a:ea typeface="Wingdings"/>
              </a:rPr>
              <a:t>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doen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4b0055"/>
                </a:solidFill>
                <a:latin typeface="Wingdings"/>
                <a:ea typeface="Wingdings"/>
              </a:rPr>
              <a:t>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 EGEMwi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66560" y="2971800"/>
            <a:ext cx="75819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4b0055"/>
                </a:solidFill>
                <a:latin typeface="Arial"/>
              </a:rPr>
              <a:t>Hoe schrijf ik mijn eigen StUF2-bericht?</a:t>
            </a:r>
            <a:endParaRPr b="1" lang="en-US" sz="1600" spc="-1" strike="noStrike">
              <a:solidFill>
                <a:srgbClr val="4b0055"/>
              </a:solidFill>
              <a:latin typeface="Arial"/>
            </a:endParaRPr>
          </a:p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b0055"/>
              </a:solidFill>
              <a:latin typeface="Arial"/>
            </a:endParaRPr>
          </a:p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4b0055"/>
                </a:solidFill>
                <a:latin typeface="Arial"/>
              </a:rPr>
              <a:t>Henri Korver</a:t>
            </a:r>
            <a:endParaRPr b="1" lang="en-US" sz="1600" spc="-1" strike="noStrike">
              <a:solidFill>
                <a:srgbClr val="4b00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7840" y="422280"/>
            <a:ext cx="67467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fische weergave berichtenschema BG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6200" y="1728720"/>
            <a:ext cx="6638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7840" y="422280"/>
            <a:ext cx="67467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eren van  een StUF2 bericht (deel I)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64960" y="2465280"/>
          <a:ext cx="396720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2465280"/>
                    <a:ext cx="396720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48240" y="2465280"/>
            <a:ext cx="3647880" cy="1312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4960" y="1838160"/>
            <a:ext cx="1533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Sta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48240" y="1819440"/>
            <a:ext cx="1533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Sta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548240" y="4960800"/>
            <a:ext cx="3647880" cy="1366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48240" y="4367160"/>
            <a:ext cx="1533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Sta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7840" y="422280"/>
            <a:ext cx="67467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eren van  een StUF2 bericht (deel II)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565280"/>
            <a:ext cx="7061400" cy="512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079800" y="3670200"/>
            <a:ext cx="2117520" cy="781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6320" y="3525840"/>
            <a:ext cx="2309760" cy="925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24160" y="4451400"/>
            <a:ext cx="2467080" cy="420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0960" y="4871880"/>
            <a:ext cx="2646360" cy="819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93880" y="4059360"/>
            <a:ext cx="2997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4b0055"/>
                </a:solidFill>
                <a:latin typeface="Arial"/>
              </a:rPr>
              <a:t>Template voor vraag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7840" y="422280"/>
            <a:ext cx="67467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eren van  een StUF2 bericht (deel III)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9720" y="1589040"/>
            <a:ext cx="7131240" cy="5183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14080" y="4684680"/>
            <a:ext cx="237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0055"/>
                </a:solidFill>
                <a:latin typeface="Arial"/>
              </a:rPr>
              <a:t>Ingevuld vraag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2:35:42Z</dcterms:created>
  <dc:creator>Gebruiker</dc:creator>
  <dc:description/>
  <dc:language>en-US</dc:language>
  <cp:lastModifiedBy>hekor</cp:lastModifiedBy>
  <dcterms:modified xsi:type="dcterms:W3CDTF">2005-10-21T10:38:51Z</dcterms:modified>
  <cp:revision>95</cp:revision>
  <dc:subject/>
  <dc:title>afkijken  nadoen  EGEMwij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haredFileIndex">
    <vt:lpwstr/>
  </property>
  <property fmtid="{D5CDD505-2E9C-101B-9397-08002B2CF9AE}" pid="4" name="_SourceUrl">
    <vt:lpwstr/>
  </property>
  <property fmtid="{D5CDD505-2E9C-101B-9397-08002B2CF9AE}" pid="5" name="display_urn:schemas-microsoft-com:office:office#Author">
    <vt:lpwstr>Paul Wouters</vt:lpwstr>
  </property>
  <property fmtid="{D5CDD505-2E9C-101B-9397-08002B2CF9AE}" pid="6" name="display_urn:schemas-microsoft-com:office:office#Editor">
    <vt:lpwstr>Paul Wouters</vt:lpwstr>
  </property>
  <property fmtid="{D5CDD505-2E9C-101B-9397-08002B2CF9AE}" pid="7" name="xd_ProgID">
    <vt:lpwstr/>
  </property>
  <property fmtid="{D5CDD505-2E9C-101B-9397-08002B2CF9AE}" pid="8" name="xd_Signature">
    <vt:lpwstr/>
  </property>
</Properties>
</file>